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214-8301-49C7-95BA-559374CA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010-1C7F-4A05-AED9-AEC2B33C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330-0350-445F-8C7C-ADD4F0DE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249-FAF9-49B5-9215-7DA10D61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8E0C-4670-49C0-B495-E163E46C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241-7EF4-4698-9667-E21D4177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1C6-4D16-44DE-B11F-464921F8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1E8A-6D6E-478D-8723-60832FCE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35DF-4E29-4E55-8425-F4064166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A21-532E-424C-BB68-67A5FA24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BC8B-6649-4B63-9818-6E38FE08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B83-15A3-43F1-9A5E-7E3A72D9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4EDE-25F4-462D-AA06-86323A4A6B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8480" y="2133720"/>
            <a:ext cx="4797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alidity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n Overvie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3962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754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388620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3886200" cy="577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3960720" cy="230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33520" y="3352680"/>
            <a:ext cx="3962160" cy="776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648320" y="1523880"/>
            <a:ext cx="3695760" cy="2895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4648320" y="533520"/>
            <a:ext cx="3720960" cy="990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68840" y="4800600"/>
            <a:ext cx="4213080" cy="1557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ly, exposure to TCD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classified according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descriptions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terans selected for stu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705360" cy="2895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19320" y="762120"/>
            <a:ext cx="6705360" cy="1068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21"/>
                </a:solidFill>
                <a:latin typeface="Times New Roman"/>
              </a:rPr>
              <a:t>Classification of TCDD exposure by job descrip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19320" y="4724280"/>
            <a:ext cx="6705360" cy="1435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666880" y="4648320"/>
            <a:ext cx="3429000" cy="1295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315200" cy="4876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90720" y="457200"/>
            <a:ext cx="541008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400800" y="457200"/>
            <a:ext cx="190512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2784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693432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6934320" cy="1752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743200" y="4419720"/>
            <a:ext cx="365760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6705720" cy="1904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09000" y="3703680"/>
            <a:ext cx="467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21"/>
                </a:solidFill>
                <a:latin typeface="Times New Roman"/>
              </a:rPr>
              <a:t>If not properly done, 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21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21"/>
                </a:solidFill>
                <a:latin typeface="Times New Roman"/>
              </a:rPr>
              <a:t>Confounding B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705720" cy="2057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05320" y="2133720"/>
            <a:ext cx="2286000" cy="761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924680" cy="5486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934320" y="5715000"/>
            <a:ext cx="17524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181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029200" y="1676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00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819520"/>
            <a:ext cx="563904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90720" y="2819520"/>
            <a:ext cx="1676160" cy="2514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3600" y="2895480"/>
            <a:ext cx="228600" cy="73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15200" cy="4219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4952880"/>
            <a:ext cx="731520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33720" y="5486400"/>
            <a:ext cx="5105160" cy="685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39:44Z</dcterms:modified>
  <cp:revision>209</cp:revision>
  <dc:subject/>
  <dc:title>Slide 1</dc:title>
</cp:coreProperties>
</file>